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51B-6213-44DA-9723-4283E8E6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3C9-D2DB-4A58-A968-201B31EF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862-35A4-4AFC-899E-D218F657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75A-5732-4291-859C-23B92964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CF6-4F51-4B18-9490-D4751B9E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93E-A62E-4431-B0DB-40A4D8A7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085-9DC7-444F-831E-79E251F7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294-61B7-4345-AF0D-FB5D4FD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DAA-ED2E-48D7-8DEB-96899A2C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C1A-221F-479F-8E90-8C53296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6BC-62AA-47A2-B262-E9CD8C7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47A-70A9-4DE9-BD65-231A7FF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556-EAC9-4901-8993-99119C94A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8240" y="2286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M images of various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920" y="685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a polylysine mono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6160" y="685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dendrites of sa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L3" descr=""/>
          <p:cNvPicPr/>
          <p:nvPr/>
        </p:nvPicPr>
        <p:blipFill>
          <a:blip r:embed="rId1"/>
          <a:srcRect l="0" t="13009" r="0" b="0"/>
          <a:stretch/>
        </p:blipFill>
        <p:spPr>
          <a:xfrm>
            <a:off x="533520" y="990720"/>
            <a:ext cx="3903480" cy="25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2880" y="3200400"/>
            <a:ext cx="348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lysine (5 mg/ml) 2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, 60 s. on mica, rinse, d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(FM probe f=67 kHz) in 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9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ILICON" descr=""/>
          <p:cNvPicPr/>
          <p:nvPr/>
        </p:nvPicPr>
        <p:blipFill>
          <a:blip r:embed="rId2"/>
          <a:srcRect l="0" t="14146" r="0" b="0"/>
          <a:stretch/>
        </p:blipFill>
        <p:spPr>
          <a:xfrm>
            <a:off x="533520" y="3962520"/>
            <a:ext cx="390348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5320" y="36576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INU5" descr=""/>
          <p:cNvPicPr/>
          <p:nvPr/>
        </p:nvPicPr>
        <p:blipFill>
          <a:blip r:embed="rId3"/>
          <a:srcRect l="0" t="13009" r="0" b="0"/>
          <a:stretch/>
        </p:blipFill>
        <p:spPr>
          <a:xfrm>
            <a:off x="4952880" y="990720"/>
            <a:ext cx="3903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astic_overview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0280" y="380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(from  a petri d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09880"/>
            <a:ext cx="3504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B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mode,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 9 kHz, k = 0.1 N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bsau240403g1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920" y="22860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&lt;111&gt;, with probably a tortured rMB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d in TBS; tapping mod with FM t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304812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19:40Z</dcterms:created>
  <dc:creator>Dionne</dc:creator>
  <dc:description/>
  <dc:language>en-US</dc:language>
  <cp:lastModifiedBy>Henriette Jensenius</cp:lastModifiedBy>
  <dcterms:modified xsi:type="dcterms:W3CDTF">2003-05-21T09:56:37Z</dcterms:modified>
  <cp:revision>4</cp:revision>
  <dc:subject/>
  <dc:title>PowerPoint Presentation</dc:title>
</cp:coreProperties>
</file>